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6C4-4BDA-44CE-83CB-5708A759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907272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3953520"/>
            <a:ext cx="907272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66B-0B01-41E8-9A24-271B023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BE8-1BC9-4EE6-A577-D5D0E375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59516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395352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395352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3953520"/>
            <a:ext cx="29210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763-EDA8-4221-8DCA-FA50924B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595160"/>
            <a:ext cx="9072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D0F-FE5A-4027-9BDE-B84C1230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90727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28A-95EC-483E-BF9B-C31562DB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B29-42F5-47DE-86BB-53C199C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618-A8D3-4E93-988A-7131457A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274680"/>
            <a:ext cx="90727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505-C9FA-493F-B8A5-B9BA99F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77D-B3AE-4ADF-91EC-69224D5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395352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EC0-8BFF-4379-BFFE-04F1CDE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595160"/>
            <a:ext cx="442728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3953520"/>
            <a:ext cx="907272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20F-4354-4EBB-AD5A-B70092BA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274680"/>
            <a:ext cx="90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595160"/>
            <a:ext cx="90727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229440"/>
            <a:ext cx="23511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229440"/>
            <a:ext cx="3191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229440"/>
            <a:ext cx="23526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ADAD-C557-485A-B590-D371B5F0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未标题-17"/>
          <p:cNvPicPr/>
          <p:nvPr/>
        </p:nvPicPr>
        <p:blipFill>
          <a:blip r:embed="rId1"/>
          <a:srcRect l="2814" t="0" r="2814" b="0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76160"/>
            <a:ext cx="1008072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全国伤害监测工作表彰暨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全国伤害预防能力建设培训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4707000"/>
            <a:ext cx="100807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中国疾病预防控制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慢性非传染性疾病预防控制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二〇一四年六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2:45:49Z</dcterms:created>
  <dc:creator>你大爷</dc:creator>
  <dc:description/>
  <dc:language>en-US</dc:language>
  <cp:lastModifiedBy>lenovo</cp:lastModifiedBy>
  <cp:lastPrinted>1899-12-30T00:00:00Z</cp:lastPrinted>
  <dcterms:modified xsi:type="dcterms:W3CDTF">2014-06-22T09:46:45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